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C6C-3F31-498A-BEBB-9019F0FA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1B4-3485-43F2-BFCE-AD7906CF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869-32D4-42A4-BCD2-1F6ECAEC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895-B1E8-405E-B057-EE085DC8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3D53-4790-43BC-BDF1-D578CB53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330A-ECA4-42EC-BBC0-73455A00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A86D-91B6-4402-A2C5-422CDC1B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9BDC-6217-4BAE-A8CF-ACC77148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0A8D-E014-4671-9055-2C87AD1A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2295-F69A-4C14-A287-15A6E581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9A16-C90E-4CF8-A71A-571468CA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A62-37B2-4428-AA5C-2D4CFFFB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832D-6C51-4BE4-95D9-3557C812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06B9-BF02-41A5-870B-49A05A34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87E5-81A4-4E60-B22D-333B4C14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E5D0-C18C-4F21-8DB7-CD72B9D4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67E1-2B8A-4389-9573-0B2FFC7B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8392-1F96-4D2F-ABE1-FE040C60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4BAC-9234-49D8-9BE7-71921191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AC96-4B09-48DE-989F-F1AED284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2973-EE07-454E-AFAC-B333677C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5EC6-363B-49BA-BCA6-EB0BE1BB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354-D11F-406D-A9EB-F44AC7CF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C6DF2-7AAE-407E-B1D7-546A8DB4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D5E1-C3D6-4195-8FE9-7E4DFBC7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5ACB-FE8F-41E7-B85C-9DB0AE4E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53BD-0D26-4ACA-A7F3-C8F0AF40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E251-60D6-4601-8180-1DE2C8B4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B3556-2476-444A-AA1D-B8F491E8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5C47-CD12-4115-90A7-0A5BE1BC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C86-477B-48CC-921A-2A4C02E2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049-BA5B-4851-9A24-A34C0B95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848-B7BF-472E-8755-D7BA412F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B4E-1CF1-4408-A2B6-3610BC16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26F-7097-4D24-8242-AD61DC70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245-45D0-42EC-B5A8-38646E2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8355-E723-4C89-AE36-79F16C88E1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4C47-E519-4E4B-98A1-C092788467A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00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BB5E-0D3D-46AB-BBA5-7207FA5E8F5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" Target="slide3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3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Прямоугольник 3" descr=""/>
          <p:cNvPicPr/>
          <p:nvPr/>
        </p:nvPicPr>
        <p:blipFill>
          <a:blip r:embed="rId1"/>
          <a:stretch/>
        </p:blipFill>
        <p:spPr>
          <a:xfrm>
            <a:off x="281160" y="907920"/>
            <a:ext cx="852156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0" name="Object 10"/>
          <p:cNvGraphicFramePr/>
          <p:nvPr/>
        </p:nvGraphicFramePr>
        <p:xfrm>
          <a:off x="1476360" y="5805360"/>
          <a:ext cx="115272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5805360"/>
                    <a:ext cx="11527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собенности ИМС  на примере                    полупроводниковой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ИС самостоятельно выполняет законченную, часто весьма сложную функцию. ИС может рассматриваться не только как элемент с определенными параметрами, но и как устройство с определенной электрической схе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Снимаются принципиальные ограничения по усложнению функций аппаратуры, которые были свойственны традиционному построению радиоэлектронных устройств на дискретных элемен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дном и том же кристалле можно реализовать узел различный сло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Picture 0" descr=""/>
          <p:cNvPicPr/>
          <p:nvPr/>
        </p:nvPicPr>
        <p:blipFill>
          <a:blip r:embed="rId4"/>
          <a:stretch/>
        </p:blipFill>
        <p:spPr>
          <a:xfrm>
            <a:off x="0" y="5805360"/>
            <a:ext cx="1476360" cy="10526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"/>
          <p:cNvPicPr/>
          <p:nvPr/>
        </p:nvPicPr>
        <p:blipFill>
          <a:blip r:embed="rId5"/>
          <a:stretch/>
        </p:blipFill>
        <p:spPr>
          <a:xfrm>
            <a:off x="2627280" y="5805360"/>
            <a:ext cx="331308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менты ИМС отличаются от аналогичных дискретных элемент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й разброс параметров относительно расчетных (из-за малых размеров, невозможностью подгонки  и подстройк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граничение номинальных значений – сопротивлений и емкостей (из-за малой площади). Индуктивность вовсе не реализу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типные элементы одной ИМС характеризуется высокой идентичностью параметров и характери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ряда паразитных параметров (токи утечки в подложку, появление емкостных и индуктивных связей между близкорасположенными элементами, соединениями и подложко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МС при создании функционального узла предпочтение отдается активным элементам перед пассивными. При построении аналогичных узлов на дискретных элементах, наоборот, стремятся уменьшить количество дорогих активных элементов (транзисторов и т.п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МС реализуются некоторые типы элементов, которые не имеют дискретных аналогов (многоэмиттерные транзисторы, элементы с инжекционным питанием, структуры с распределенными параметрами и д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4" descr="s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нтегральная микросхема –это микроэлектронное изделие, выполняющее определенные функции преобразования, имеющее высокую плотность упаковки электрически соединенных между собой элементов и компонент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TN_24_pic-6-fla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лассификация интегральных микросхем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По степени слож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По характеру выполняемых операций и виду сигнал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4" action="ppaction://hlinksldjump"/>
              </a:rPr>
              <a:t>По конструктивно-технологическому признаку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6" action="ppaction://hlinksldjump"/>
              </a:rPr>
              <a:t>По функциональному назначени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 наличию или отсутствию корпу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modem_d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степени сложности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алые(простые) - К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редние- К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ольшие- К 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верхбольшие- К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арактеризуется степенью интеграции        К= lg N, где N- число элементов и компонентов, входящих в ИМ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5" descr="faq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характеру выполняемых операций и виду сигналов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Цифро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Работают в импульсном режиме и могут находиться в одном из двух резко различных состояни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0 и 1- и соответствующие им сигналы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налог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Работают в таких режимах, когда изменения токов и напряжений в заданном диапазоне происходят непрерывно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" descr="PH05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конструктивно-технологическому признаку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оноли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ле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ибрид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овмещ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4" descr="pb11248586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оноли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 монолитных ИМС все элементы выполнены на основе одного кристалла полупроводникового материала - активной подлож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inside-2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лено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се элементы представляют собой пленки, нанесенные на диэлектрическое основание  (пассивную подложку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Различают тонкопленочные и толстопленочные ИМ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ИНТЕГРАЛЬНЫЕ МИКРОСХ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СТЕПЕНЬ ИНТЕГ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КЛАССИФИКАЦИЯ ИМ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ОСОБЕННОСТИ ИС НА ПРИМЕРЕ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 action="ppaction://hlinksldjump"/>
              </a:rPr>
              <a:t>      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5" action="ppaction://hlinksldjump"/>
              </a:rPr>
              <a:t>ПОЛУПРОВОДНИК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4" descr="geniu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ибрид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ассивные элементы (резисторы, конденсаторы и т.п.) выполнены в виде пленок, нанесенных на диэлектрическую подложку, а активные элементы (диоды, транзисторы и др.) являются навесны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zamchi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вмещен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зготавливаются на основе технологии полупроводниковых и пленочных микросхем, т.е.  транзисторы и диоды выполняются так же , как и в  полупроводниковых ИМС, а  пассивные элементы и межсоединения наносят в виде пленок на ту же подложку. Подложка для обеспечения электрической изоляции перед этим окисля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4" descr="NF2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функциональному назначению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енерато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етект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ммутаторы и клю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огические элем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одулят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хемы за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игг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илители и др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modem_d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ловные обознач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(Схема условного обозначения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ервый элемент – цифра, указывающая конструктивно-технологическое исполн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торой элемент – две цифры, обозначающие порядковый номер серии микросх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Третий элемент – две буквы, указывающие функциональное назнач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Четвертый элемент – порядковый номер разработки микросхем по функциональному  признаку в данной се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 Буквы К, КМ и КР в начале условного обозначения характеризуют условия их приемки на заводе-изготовител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хема условного обозна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4" descr="http://stat.bashedu.ru/wsap/posobie/chapter6/2.htm3.gif"/>
          <p:cNvPicPr/>
          <p:nvPr/>
        </p:nvPicPr>
        <p:blipFill>
          <a:blip r:embed="rId2"/>
          <a:srcRect l="15187" t="0" r="7590" b="0"/>
          <a:stretch/>
        </p:blipFill>
        <p:spPr>
          <a:xfrm>
            <a:off x="2124000" y="1773360"/>
            <a:ext cx="5329440" cy="32400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s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http://stat.bashedu.ru/wsap/posobie/chapter6/2.htm2.gif"/>
          <p:cNvPicPr/>
          <p:nvPr/>
        </p:nvPicPr>
        <p:blipFill>
          <a:blip r:embed="rId2"/>
          <a:stretch/>
        </p:blipFill>
        <p:spPr>
          <a:xfrm>
            <a:off x="1547640" y="3213000"/>
            <a:ext cx="5761080" cy="35290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http://stat.bashedu.ru/wsap/posobie/chapter6/2.htm1.gif"/>
          <p:cNvPicPr/>
          <p:nvPr/>
        </p:nvPicPr>
        <p:blipFill>
          <a:blip r:embed="rId3"/>
          <a:stretch/>
        </p:blipFill>
        <p:spPr>
          <a:xfrm>
            <a:off x="1619280" y="115920"/>
            <a:ext cx="5753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4" descr="h10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5676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2929"/>
                </a:solidFill>
                <a:latin typeface="Tahoma"/>
              </a:rPr>
              <a:t>Технология изгото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ращивание полупроводникового материа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 кремниевой подлож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таллиза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зка на кристал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бор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троль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geniu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ращивание полупроводникового материа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кремниевой подлож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Picture 4" descr="fuji1"/>
          <p:cNvPicPr/>
          <p:nvPr/>
        </p:nvPicPr>
        <p:blipFill>
          <a:blip r:embed="rId2"/>
          <a:stretch/>
        </p:blipFill>
        <p:spPr>
          <a:xfrm>
            <a:off x="2195640" y="2781360"/>
            <a:ext cx="476856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" descr="1146392409_contac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еталлизация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Процесс получения на поверхности кристалла определенной конфигурации проводящих дорожек и контактных площадок. Первые служат для связи различных областей (элементов) кристалла в единую электрическую схему. Контактные же площадки применяются для соединения кристалла с выводами корпуса и контроля электрических параметров перед окончательной сборкой микросх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2" name="Picture 5" descr=""/>
          <p:cNvPicPr/>
          <p:nvPr/>
        </p:nvPicPr>
        <p:blipFill>
          <a:blip r:embed="rId2"/>
          <a:stretch/>
        </p:blipFill>
        <p:spPr>
          <a:xfrm>
            <a:off x="2340000" y="4941720"/>
            <a:ext cx="3959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4" descr="faq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5676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езка на кристал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одложку разрезают на отдельные кристаллы по очень узкой границе между ними. Для резки подложек используют алмазные диски с внешней режущей кромкой или алмазный резец. Алмазным резцом наносят углубления (царапины), после чего, зажав подложку между двумя резиновыми валками, ее ломают (разломы возникают как раз в области предварительно нанесенных углублени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566280" y="333360"/>
            <a:ext cx="8001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Интегральная микросхема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микроэлектронное изделие, содержащее не менее пяти активных элементов (транзисторов, диодов) и пассивных элементов (резисторов, конденсаторов, дросселей), которые изготовляются в едином технологическом процессе, электрически соединены между собой, заключены в общий корпус и представляют неразделимое  цел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4" descr="TN_24_pic-6-fla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бор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Кристаллы надежно закрепляются в корпусе, чаще всего с помощью теплопроводящего клея или эвтектического сплава. Выводы корпуса с контактными площадками на поверхности кристалла соединяются с помощью очень тоненьки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из эластичных проводников. Соединения выполняются при помощи ультразвуковой сварки или пай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Picture 5" descr=""/>
          <p:cNvPicPr/>
          <p:nvPr/>
        </p:nvPicPr>
        <p:blipFill>
          <a:blip r:embed="rId2"/>
          <a:stretch/>
        </p:blipFill>
        <p:spPr>
          <a:xfrm>
            <a:off x="3348000" y="4508640"/>
            <a:ext cx="244800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1168011078_8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оды технологического контрол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спользуемые в производстве ИМС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операционный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изуальный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естовые ИМ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4" descr="h10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операционный контро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юда входят измерения толщин пленок, глубин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-n 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переходов, поверхностной концентрации и др., производимые на специальных контрольных образцах, помещаемых вместе с обрабатываемыми пластинами на данную операцию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5" descr="inside-2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изуальны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н включает осмотр схем под оптическим микроскопом и использование различных средств визуализации – наблюдение термографии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4" descr="pb11248586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естовые ИМ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ля контроля электрических характеристик структур и качества проведения технологических операций используют специально изготовляемые или размещаемые на рабочей подложке структуры, называемые тестовыми микросхемам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5" descr="PH05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иды контрольных испытаний интегральных микросхем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араметрический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ункциональный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агностический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5" descr="NF261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араметрически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спользуется для микросхем с малой интеграцией и включает в себя измерения основных параметров на постоянном ток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zamchi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ункциональны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ключает в себя проведение статистических и динамических измерений на базе контрольной тестовой таблиц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5" descr="1146392409_contac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иагностически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аиболее эффективен при проведении испытаний гибридных интегральных микросхем, в которых в принципе возможна замена неисправных элементов, расположенных на общей подлож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4" descr="geniu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верка механической прочности соединени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таллографический анали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нтгеновская дефектоскоп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троль деталей после холодной штампов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троль на герметич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оверка оснований корпусов на герметич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асс-спектрометрический мет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акуум–жидкостный мет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мпрессионно-термический мет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лажностный мето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16720" y="549000"/>
            <a:ext cx="2627280" cy="4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Picture 4" descr="155la3[1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0"/>
            <a:ext cx="3168360" cy="1989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2716 К573РФ5 К537РУ10 к140 К132РУ82716 К573РФ5 К537РУ10 к140 К132РУ8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060640"/>
            <a:ext cx="799308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бачев Г.Н., Чаплыгин Е.Е. «Промышленная электрони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бродин Ю.С. «Промышленная электроника»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рл Д.Гейтс «Введение в электроник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pb11248586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358920" y="358560"/>
            <a:ext cx="8456400" cy="6118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формационные источники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integrals.narod.ru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integral.by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elek.oglib.ru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itis.spb.ru/link_ics.ht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download.nehudlit.ru/nehudlit/self0665/yakubovskii.rar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knigka.info/2007/02/21/print:page,1,integralnye_mikroskhemy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radiomaster.ru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gelezo.com/telephones/220000/220300/integralnie_mikroshemi_i_rabota_s_nimi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gelezo.com/ttl_kmop/650000/651000/logicheskie_integralnie_mikroshemi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kftt.karelia.ru/sources/ivash/im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vt1.ru/mc/108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l-p-c.ru/topol.ph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asic.ru/cha5503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www.primexpo.ru/power/section03.s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a9b7"/>
                </a:solidFill>
                <a:latin typeface="Tahoma"/>
              </a:rPr>
              <a:t>http://mw.mvdv.ru/expo/17723/prod_4306_r.ht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01320" y="188640"/>
            <a:ext cx="859140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точки зрения интеграции основными параметрами интегральных микросхем является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лотность и степень интеграц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лотнос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упаковки характеризует количество элементов в единице объема ИМС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тепень интеграц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количество  элементов, входящих в состав ИМС. По степени интеграции все ИМС принято подразделять на ИМС : первой степени интеграции – до 10 элементов, второй степени – от 10 до 100 элементов, и третьей степени – от 100 до 1000 элементов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4" name="Object 5"/>
          <p:cNvGraphicFramePr/>
          <p:nvPr/>
        </p:nvGraphicFramePr>
        <p:xfrm>
          <a:off x="0" y="5805360"/>
          <a:ext cx="1835280" cy="10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05360"/>
                    <a:ext cx="18352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6"/>
          <p:cNvGraphicFramePr/>
          <p:nvPr/>
        </p:nvGraphicFramePr>
        <p:xfrm>
          <a:off x="1835280" y="5805360"/>
          <a:ext cx="115236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5805360"/>
                    <a:ext cx="115236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8" name="Picture 9" descr=""/>
          <p:cNvPicPr/>
          <p:nvPr/>
        </p:nvPicPr>
        <p:blipFill>
          <a:blip r:embed="rId6"/>
          <a:stretch/>
        </p:blipFill>
        <p:spPr>
          <a:xfrm>
            <a:off x="2987640" y="5805360"/>
            <a:ext cx="1513080" cy="10526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155la3[1]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00720" y="5805360"/>
            <a:ext cx="180000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о назначению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все ИМС подразделяются на 2 класса :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инейно-импульс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огическ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линейно-импульсным микросхемам  относят микросхемы, которые обеспечивают примерно пропорциональную зависимость между входными и выходными сигнал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гические интегральные микросхемы, как правило, представляют собой устройства с несколькими входами и выходами. В них как входные, так и выходные напряжения могут принимать лишь определенные значения. Основными параметрами этих микросхем являются входное и выходное напряжения и быстродейств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1" name="Picture 1" descr=""/>
          <p:cNvPicPr/>
          <p:nvPr/>
        </p:nvPicPr>
        <p:blipFill>
          <a:blip r:embed="rId2"/>
          <a:stretch/>
        </p:blipFill>
        <p:spPr>
          <a:xfrm>
            <a:off x="3059280" y="5300640"/>
            <a:ext cx="1728720" cy="1557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" descr=""/>
          <p:cNvPicPr/>
          <p:nvPr/>
        </p:nvPicPr>
        <p:blipFill>
          <a:blip r:embed="rId3"/>
          <a:stretch/>
        </p:blipFill>
        <p:spPr>
          <a:xfrm>
            <a:off x="0" y="5300640"/>
            <a:ext cx="302436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о конструктивно-технологическим признакам ИС делят 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 о л у п р о в о д н и к о в ы е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и г и б р и д н ы е  ИМС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 о л у п р о в о д н и к о в ы е, в которых все элементы ( диоды, резисторы, транзисторы, конденсаторы и соединения между ними ) выполняются в объеме и на поверхности кристалла полупроводника  в  процессе единого технологического цикла. Изготовление осуществля­ется в несколько этапов с помощью фотолитографии, диффузии, ионного  легирования  и др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4" name="Picture 0" descr=""/>
          <p:cNvPicPr/>
          <p:nvPr/>
        </p:nvPicPr>
        <p:blipFill>
          <a:blip r:embed="rId2"/>
          <a:stretch/>
        </p:blipFill>
        <p:spPr>
          <a:xfrm>
            <a:off x="0" y="5084640"/>
            <a:ext cx="2879640" cy="1773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" descr=""/>
          <p:cNvPicPr/>
          <p:nvPr/>
        </p:nvPicPr>
        <p:blipFill>
          <a:blip r:embed="rId3"/>
          <a:stretch/>
        </p:blipFill>
        <p:spPr>
          <a:xfrm>
            <a:off x="2916360" y="5084640"/>
            <a:ext cx="30240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301680" y="189000"/>
            <a:ext cx="85406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 и б р и д н ы е  ИМС  выполняются в виде пленок ,  наносимых  на  поверхность из диэлектрика (керамика или стекло) и навесных бескорпусных активных элементов (транзисторов, дросселей), прикрепленных к основанию. Так, для создания резистора напыляется полоска нихрома или кермета, для создания конденсатора наносится слой проводника, затем диэлектрика, затем снова проводника, транзистор создан трехслойной n-p-n  структур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ибридные ИМ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делятся н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тонкопленочны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толстопленоч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0" descr=""/>
          <p:cNvPicPr/>
          <p:nvPr/>
        </p:nvPicPr>
        <p:blipFill>
          <a:blip r:embed="rId2"/>
          <a:stretch/>
        </p:blipFill>
        <p:spPr>
          <a:xfrm>
            <a:off x="0" y="5373720"/>
            <a:ext cx="3745080" cy="1484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" descr=""/>
          <p:cNvPicPr/>
          <p:nvPr/>
        </p:nvPicPr>
        <p:blipFill>
          <a:blip r:embed="rId3"/>
          <a:stretch/>
        </p:blipFill>
        <p:spPr>
          <a:xfrm>
            <a:off x="3708360" y="5373720"/>
            <a:ext cx="287964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о характеру выполняемых операц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ИМС делятся на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ц и ф р о в ы 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и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 н а л о г о в ы 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 и ф р о в ы е  ИМС  предназначены для преобразования  и обработки дискретных сигналов (сигналов в виде последовательности импульсов), у них выходное напряжение зависит от наличия или отсутствия напряжения на различных входах. Используются в вычислительной технике, автоматике, измерительной техни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н а л о г о в ы е  ИМС  применяются в качестве усилителей, генераторов, стабилизаторов тока и напряжения  и  других  устройств, которые работают с сигналами в виде непрерывных функ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НАЧА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3:53:53Z</dcterms:created>
  <dc:creator>kokc</dc:creator>
  <dc:description/>
  <dc:language>en-US</dc:language>
  <cp:lastModifiedBy>student</cp:lastModifiedBy>
  <dcterms:modified xsi:type="dcterms:W3CDTF">2014-06-02T10:34:03Z</dcterms:modified>
  <cp:revision>19</cp:revision>
  <dc:subject/>
  <dc:title>Слайд 1</dc:title>
</cp:coreProperties>
</file>